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D62B-3284-4873-A26C-A2E328635D6D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7D05-232B-4E54-AAE3-43DC83B9521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4B6E-4E60-461C-907B-FB8A06423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AFBC-8AAD-4B3C-802E-6B1BE74F5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952A-19A4-4E3D-AABE-1143B836582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F74E-8C1C-44CA-865B-2AA73249A69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D5E9-F862-473A-940A-A2343D40D6C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564E-25FE-47B3-88A4-E1DB6AAD05F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3003-E635-4357-AD75-B0FDA4ECEA2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0D7B-89E7-4B46-858B-9924FDB5562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747F-8109-458C-8C44-331F984CA92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4D42-CB5C-4286-A381-30EACB5DE64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A1A2-2D72-42F2-9407-2DC3183EF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1297-3DC6-49C1-8BD9-805ECECB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B334-0276-4B4C-9987-19AE1C07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76A8-B514-4C67-AF72-F8A39892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176E-5B08-424E-A38B-7B1FD6AD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D7B1-1D87-4DF0-931C-42B7493A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CDF0-AAAF-4634-9422-7B9AEE6E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8D1E-C0F8-4F7C-A91D-EB9E88F5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5225-51C3-40BD-A7E4-49985E9F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F3E1-A98A-4BDF-9C08-A256161D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2BC0-AE1C-4D04-8312-C34C7C67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339D-3C8C-4EEB-95C9-6C74760E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E816-04B0-4C6A-AA61-6851B6A0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7134-8382-4CA8-8851-9BDA3F08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6D3F-D2F6-4151-95D0-F6AFC2B8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577B-F9F4-447B-84F0-BDBA92C4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B16B-220E-417B-B076-F78AE896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C615-EB2C-4387-B830-A0856B08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01FE-EBEF-4E10-8A39-64A026CC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A7D5-8BE6-4D23-9CDC-EF8ED210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2984-8165-4DB9-8FB8-7C07F410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3A3-DF00-4BBF-AA42-2338E477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552E-25BF-4CBF-B154-C6A35251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F5EA-35A7-4FC1-A841-56343485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41FC-6E99-43DC-8039-E01FA874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3102-94D1-4462-AEF6-1EFB9C79915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0DFA-0B63-44AC-BB1D-C7D59FE6038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-7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58920" y="1700280"/>
          <a:ext cx="6769080" cy="1677960"/>
        </p:xfrm>
        <a:graphic>
          <a:graphicData uri="http://schemas.openxmlformats.org/drawingml/2006/table">
            <a:tbl>
              <a:tblPr/>
              <a:tblGrid>
                <a:gridCol w="3589200"/>
                <a:gridCol w="3179880"/>
              </a:tblGrid>
              <a:tr h="121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SMJU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06320" y="1700280"/>
          <a:ext cx="7993080" cy="1555560"/>
        </p:xfrm>
        <a:graphic>
          <a:graphicData uri="http://schemas.openxmlformats.org/drawingml/2006/table">
            <a:tbl>
              <a:tblPr/>
              <a:tblGrid>
                <a:gridCol w="3218040"/>
                <a:gridCol w="2327040"/>
                <a:gridCol w="244800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</a:t>
                      </a: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dod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71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400" spc="-1" strike="noStrike">
                <a:solidFill>
                  <a:srgbClr val="800080"/>
                </a:solidFill>
                <a:latin typeface="Calibri"/>
              </a:rPr>
              <a:t>KĀDĀS PROFESIJĀS NEPIECIEŠAMAS MANAS STIPRĀS PUS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1844640"/>
          <a:ext cx="8713800" cy="189072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fesijas, kurās tās nepiecieša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ešvalodu zināša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lks, tulkotājs, skolotājs, diplomāts, gids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Dažādu materiālu sagatavošana, kam nepieciešama informācijas vākšana un atlase, kā arī secinājumu izdarī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Mūsdienu informācijas tehnoloģiju izmant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920" y="1700280"/>
          <a:ext cx="8640720" cy="2927160"/>
        </p:xfrm>
        <a:graphic>
          <a:graphicData uri="http://schemas.openxmlformats.org/drawingml/2006/table">
            <a:tbl>
              <a:tblPr/>
              <a:tblGrid>
                <a:gridCol w="2879640"/>
                <a:gridCol w="3600360"/>
                <a:gridCol w="21607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1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6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intereses un stiprās puses saistās ar profesijā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6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inātnisko projek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19:39Z</dcterms:modified>
  <cp:revision>345</cp:revision>
  <dc:subject/>
  <dc:title>Slide 1</dc:title>
</cp:coreProperties>
</file>